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C431-1C09-45EC-8BCA-19799342EE1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BC97-D042-40D9-B9BD-DAF2EDDFA82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09515-7A09-46AE-9946-D5C963710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5B55-B774-4485-9499-85461D57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E88D4-C099-469B-8407-4B03C0A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E51A-86DE-4C07-8F56-C35E0947B3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B773-870D-4AB2-AF4D-958E7A95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5F64D-9629-4CC4-A405-7E00A110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496F-6522-4A64-BA38-2A760547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22D0-EAA8-45DC-8580-63EE544F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9D86F-3437-4E09-A1C4-EDF5E9E6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154D-2288-499E-BF88-DCD4F931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84C6-F2D5-4D12-AAF2-017AB193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6ECCF-726D-42DA-9C54-13595596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8ED1-21D7-45CC-A203-CCC5D04ABC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54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明确诊断为多发骨折伴休克，经扩容治疗后，神志未清醒，测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中心静脉压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进一步的护理重点是什么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               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如何监测患者病情变化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/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先晶体后胶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能复述休克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概述休克患者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休克辅助检查项目及意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休克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和防治感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照无菌技术原则执行各项护理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合理应用抗菌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、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口腔护理和留置尿管的护理，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意外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床单清洁、平整、干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压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患者将输液管道或引流管等拔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继续原发疾病治疗或康复，加强对原发病观察，定期复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对引起休克疾病的预防，避免各种意外伤害的发生，学会受伤后的紧急救助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休克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心排血量、动脉血气分析、动脉血乳酸盐含量等监测休克进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机体受到强烈的致病因素侵袭后，导致有效循环血量锐减、组织血液灌流不足所引起的以微循环障碍、代谢障碍和细胞受损为特征的病理性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被汽车撞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后急诊入院。患者浅昏迷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50/3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立即查血常规、血型，紧急配血，给予双通道静脉输入平衡盐、代血浆，静滴止血药物等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检查：左侧肩胛骨、肱骨头粉碎性骨折，左侧髂骨翼、髋臼及股骨粗隆间粉碎性骨折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床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检查：腹腔内无实质脏器破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：未发现颅内血肿及脑挫裂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显著苍白，肢端发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28:06Z</dcterms:modified>
  <cp:revision>96</cp:revision>
  <dc:subject/>
  <dc:title>内科护理学</dc:title>
</cp:coreProperties>
</file>